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F27-7C81-4769-A03C-2428CB69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95D-E983-4E1F-87E3-CD777F87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849-D7D2-4EFB-AF35-ECA79EA2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206-F9C5-4398-8273-60B3922D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3D0-9FBF-4201-BA46-3E93CC7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759-B4B6-4C1D-B262-6766558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108-81A8-4155-AEF4-5C1EDE06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138-6E0A-4508-97C4-1165DECD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9FF-2F19-488F-BB1A-51C948F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587-922D-4612-9BA0-97703C1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C8C-3589-42C2-A935-58B1D89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907-417C-4AD7-B3C3-1632F25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FDD-8A20-4980-AA8B-F08DC34357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hitelogo"/>
          <p:cNvPicPr/>
          <p:nvPr/>
        </p:nvPicPr>
        <p:blipFill>
          <a:blip r:embed="rId3"/>
          <a:stretch/>
        </p:blipFill>
        <p:spPr>
          <a:xfrm>
            <a:off x="179280" y="6381720"/>
            <a:ext cx="15541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25225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3:36:18Z</dcterms:created>
  <dc:creator>Kris Calver</dc:creator>
  <dc:description/>
  <dc:language>en-US</dc:language>
  <cp:lastModifiedBy>Elizabeth King</cp:lastModifiedBy>
  <dcterms:modified xsi:type="dcterms:W3CDTF">2023-09-05T20:28:03Z</dcterms:modified>
  <cp:revision>3</cp:revision>
  <dc:subject/>
  <dc:title>Slide 1</dc:title>
</cp:coreProperties>
</file>