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</p:sldIdLst>
  <p:sldSz cx="9144000" cy="6858000"/>
  <p:notesSz cx="6732588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5FFFC-1580-4818-AA70-7DC80B597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24000" y="1638000"/>
            <a:ext cx="84960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24000" y="2492280"/>
            <a:ext cx="84960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24000" y="4372920"/>
            <a:ext cx="84960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BA80D-2AF8-43E4-A92F-C16B0B3DB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324000" y="1638000"/>
            <a:ext cx="84960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324000" y="2492280"/>
            <a:ext cx="414576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7480" y="2492280"/>
            <a:ext cx="414576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BA5954-9C48-4541-A9C0-8B42050A8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24000" y="1638000"/>
            <a:ext cx="84960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D031B5-3DD5-4C93-8E8D-B795CFF40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324000" y="1638000"/>
            <a:ext cx="8496000" cy="32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C9425B-1383-47E5-BFCA-EFD6EFB21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24000" y="1638000"/>
            <a:ext cx="84960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24000" y="2492280"/>
            <a:ext cx="4145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7480" y="2492280"/>
            <a:ext cx="414576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24000" y="4372920"/>
            <a:ext cx="4145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FC9147-1A09-4406-B123-2FB8B9F6E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24000" y="1638000"/>
            <a:ext cx="84960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324000" y="2492280"/>
            <a:ext cx="414576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7480" y="2492280"/>
            <a:ext cx="4145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7480" y="4372920"/>
            <a:ext cx="4145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6320F5-8F26-49E2-BCA8-CD59C9273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24000" y="1638000"/>
            <a:ext cx="84960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24000" y="2492280"/>
            <a:ext cx="4145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7480" y="2492280"/>
            <a:ext cx="4145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324000" y="4372920"/>
            <a:ext cx="84960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3B80A9-62A8-4A7B-9036-43EDB82B0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24000" y="1638000"/>
            <a:ext cx="84960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324000" y="2492280"/>
            <a:ext cx="84960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324000" y="4372920"/>
            <a:ext cx="84960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507763-6B9B-4D53-BDB4-608B598B5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24000" y="1638000"/>
            <a:ext cx="84960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324000" y="2492280"/>
            <a:ext cx="4145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7480" y="2492280"/>
            <a:ext cx="4145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324000" y="4372920"/>
            <a:ext cx="4145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7480" y="4372920"/>
            <a:ext cx="4145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7F1657-2DA3-4FBF-B49A-7F1665D26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24000" y="1638000"/>
            <a:ext cx="84960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324000" y="2492280"/>
            <a:ext cx="273564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196800" y="2492280"/>
            <a:ext cx="273564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69600" y="2492280"/>
            <a:ext cx="273564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324000" y="4372920"/>
            <a:ext cx="273564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196800" y="4372920"/>
            <a:ext cx="273564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69600" y="4372920"/>
            <a:ext cx="273564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96B120-2494-4F19-BA0B-F97A6CB89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939A5E-7936-475E-A239-9A392286D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24000" y="1638000"/>
            <a:ext cx="84960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24000" y="2492280"/>
            <a:ext cx="4145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7480" y="2492280"/>
            <a:ext cx="4145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24000" y="4372920"/>
            <a:ext cx="4145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7480" y="4372920"/>
            <a:ext cx="4145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18612-93A0-4A2D-94EE-DA33239BE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24000" y="1638000"/>
            <a:ext cx="84960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324000" y="2492280"/>
            <a:ext cx="8496000" cy="36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E125AF-602A-45A0-898D-C143C370F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24000" y="1638000"/>
            <a:ext cx="84960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24000" y="2492280"/>
            <a:ext cx="849600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5B15BA-623C-4517-94C0-596ADDEC3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24000" y="1638000"/>
            <a:ext cx="84960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24000" y="2492280"/>
            <a:ext cx="414576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7480" y="2492280"/>
            <a:ext cx="414576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DD2DCD-0FE8-4B23-9212-9515507C1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324000" y="1638000"/>
            <a:ext cx="84960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AE1DC9-110B-4E77-AFE0-D6656F16F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324000" y="1638000"/>
            <a:ext cx="8496000" cy="32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1222D9-D0CE-4A9A-83EC-D53CFC38D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24000" y="1638000"/>
            <a:ext cx="84960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24000" y="2492280"/>
            <a:ext cx="4145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7480" y="2492280"/>
            <a:ext cx="414576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324000" y="4372920"/>
            <a:ext cx="4145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BCD344-EED0-4BC8-BC19-002FBE283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24000" y="1638000"/>
            <a:ext cx="84960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324000" y="2492280"/>
            <a:ext cx="414576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7480" y="2492280"/>
            <a:ext cx="4145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677480" y="4372920"/>
            <a:ext cx="4145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1FDC63-2141-4002-9AAC-03267C250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24000" y="1638000"/>
            <a:ext cx="84960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24000" y="2492280"/>
            <a:ext cx="4145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7480" y="2492280"/>
            <a:ext cx="4145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324000" y="4372920"/>
            <a:ext cx="84960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9DFBCB-82C5-478F-BA38-28F4655CD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324000" y="1638000"/>
            <a:ext cx="84960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324000" y="2492280"/>
            <a:ext cx="84960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324000" y="4372920"/>
            <a:ext cx="84960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40F810-4813-4C25-B201-9C4021C9E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324000" y="1638000"/>
            <a:ext cx="84960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324000" y="2492280"/>
            <a:ext cx="4145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7480" y="2492280"/>
            <a:ext cx="4145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324000" y="4372920"/>
            <a:ext cx="4145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677480" y="4372920"/>
            <a:ext cx="4145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9565EA-AAC0-49E2-8FA0-320A9BE98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24000" y="1638000"/>
            <a:ext cx="84960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24000" y="2492280"/>
            <a:ext cx="273564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96800" y="2492280"/>
            <a:ext cx="273564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69600" y="2492280"/>
            <a:ext cx="273564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24000" y="4372920"/>
            <a:ext cx="273564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96800" y="4372920"/>
            <a:ext cx="273564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69600" y="4372920"/>
            <a:ext cx="273564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FDE64-AE3B-4101-91AC-235C29F60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324000" y="1638000"/>
            <a:ext cx="84960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324000" y="2492280"/>
            <a:ext cx="273564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196800" y="2492280"/>
            <a:ext cx="273564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069600" y="2492280"/>
            <a:ext cx="273564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324000" y="4372920"/>
            <a:ext cx="273564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196800" y="4372920"/>
            <a:ext cx="273564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6069600" y="4372920"/>
            <a:ext cx="273564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99C50B-F297-458C-A80E-EB0F6B603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B2F522-9FB7-4318-BF4D-7A44BB2E7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324000" y="1638000"/>
            <a:ext cx="84960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subTitle"/>
          </p:nvPr>
        </p:nvSpPr>
        <p:spPr>
          <a:xfrm>
            <a:off x="324000" y="2492280"/>
            <a:ext cx="8496000" cy="36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EF3593-E51A-4415-A6C4-BB533C993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24000" y="1638000"/>
            <a:ext cx="84960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324000" y="2492280"/>
            <a:ext cx="849600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54AFEA-7902-496D-A7D0-A2B8473E7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24000" y="1638000"/>
            <a:ext cx="84960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24000" y="2492280"/>
            <a:ext cx="414576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7480" y="2492280"/>
            <a:ext cx="414576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4D40BC-5425-4D3F-8FC3-75DCF649C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324000" y="1638000"/>
            <a:ext cx="84960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BC5CDF-9106-4263-84A2-55B2FC393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ubTitle"/>
          </p:nvPr>
        </p:nvSpPr>
        <p:spPr>
          <a:xfrm>
            <a:off x="324000" y="1638000"/>
            <a:ext cx="8496000" cy="32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497C3E-E14B-410E-B3B3-0BC22F8B6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24000" y="1638000"/>
            <a:ext cx="84960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324000" y="2492280"/>
            <a:ext cx="4145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7480" y="2492280"/>
            <a:ext cx="414576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324000" y="4372920"/>
            <a:ext cx="4145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53A2A3-F271-49E3-9586-C79F4259C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324000" y="1638000"/>
            <a:ext cx="84960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324000" y="2492280"/>
            <a:ext cx="414576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7480" y="2492280"/>
            <a:ext cx="4145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677480" y="4372920"/>
            <a:ext cx="4145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505C91-549D-476A-9100-0D5000CCB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324000" y="1638000"/>
            <a:ext cx="84960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324000" y="2492280"/>
            <a:ext cx="4145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7480" y="2492280"/>
            <a:ext cx="4145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324000" y="4372920"/>
            <a:ext cx="84960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4AA5E7-5384-4459-A5B7-B628F0D7E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4F775-10F7-4D32-9F4F-40CA6F0D8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324000" y="1638000"/>
            <a:ext cx="84960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324000" y="2492280"/>
            <a:ext cx="84960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24000" y="4372920"/>
            <a:ext cx="84960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D87C1B-4612-4FA1-AC23-C40925D46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324000" y="1638000"/>
            <a:ext cx="84960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324000" y="2492280"/>
            <a:ext cx="4145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7480" y="2492280"/>
            <a:ext cx="4145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324000" y="4372920"/>
            <a:ext cx="4145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677480" y="4372920"/>
            <a:ext cx="4145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8ED033-4E09-4281-9551-DE8186B4E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324000" y="1638000"/>
            <a:ext cx="84960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324000" y="2492280"/>
            <a:ext cx="273564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3196800" y="2492280"/>
            <a:ext cx="273564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6069600" y="2492280"/>
            <a:ext cx="273564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324000" y="4372920"/>
            <a:ext cx="273564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6"/>
          <p:cNvSpPr>
            <a:spLocks noGrp="1"/>
          </p:cNvSpPr>
          <p:nvPr>
            <p:ph/>
          </p:nvPr>
        </p:nvSpPr>
        <p:spPr>
          <a:xfrm>
            <a:off x="3196800" y="4372920"/>
            <a:ext cx="273564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7"/>
          <p:cNvSpPr>
            <a:spLocks noGrp="1"/>
          </p:cNvSpPr>
          <p:nvPr>
            <p:ph/>
          </p:nvPr>
        </p:nvSpPr>
        <p:spPr>
          <a:xfrm>
            <a:off x="6069600" y="4372920"/>
            <a:ext cx="273564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87824B-9FD8-4846-AF3B-7C2266A10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8E53EF-B2C7-46D9-ACA7-0FF382DF0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324000" y="1638000"/>
            <a:ext cx="84960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subTitle"/>
          </p:nvPr>
        </p:nvSpPr>
        <p:spPr>
          <a:xfrm>
            <a:off x="324000" y="2492280"/>
            <a:ext cx="8496000" cy="36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40B146-9A1F-4C06-81AB-6FA81E410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24000" y="1638000"/>
            <a:ext cx="84960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324000" y="2492280"/>
            <a:ext cx="849600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502161-4050-4E5C-878F-4898F0C0D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24000" y="1638000"/>
            <a:ext cx="84960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24000" y="2492280"/>
            <a:ext cx="414576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7480" y="2492280"/>
            <a:ext cx="414576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724C39-4F90-46E9-B919-F9C9EDD4A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324000" y="1638000"/>
            <a:ext cx="84960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961006-3A6D-4D4D-8BB2-3C3C44751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ubTitle"/>
          </p:nvPr>
        </p:nvSpPr>
        <p:spPr>
          <a:xfrm>
            <a:off x="324000" y="1638000"/>
            <a:ext cx="8496000" cy="32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D270DA-43FD-4C68-85A7-FB42B1F96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24000" y="1638000"/>
            <a:ext cx="84960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324000" y="2492280"/>
            <a:ext cx="4145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7480" y="2492280"/>
            <a:ext cx="414576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324000" y="4372920"/>
            <a:ext cx="4145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B53253-7D39-4DC6-9F90-081923122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24000" y="1638000"/>
            <a:ext cx="84960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324000" y="2492280"/>
            <a:ext cx="8496000" cy="36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75C95-A9BC-432E-AD3B-CA90AA5C8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24000" y="1638000"/>
            <a:ext cx="84960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324000" y="2492280"/>
            <a:ext cx="414576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7480" y="2492280"/>
            <a:ext cx="4145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677480" y="4372920"/>
            <a:ext cx="4145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64B16E-084A-40FD-A917-F77AB8D11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24000" y="1638000"/>
            <a:ext cx="84960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24000" y="2492280"/>
            <a:ext cx="4145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7480" y="2492280"/>
            <a:ext cx="4145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324000" y="4372920"/>
            <a:ext cx="84960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4DF086-9B41-4C37-9A84-829412F0A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324000" y="1638000"/>
            <a:ext cx="84960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324000" y="2492280"/>
            <a:ext cx="84960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324000" y="4372920"/>
            <a:ext cx="84960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F637ED-802D-45A1-8E4A-B646310AC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324000" y="1638000"/>
            <a:ext cx="84960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324000" y="2492280"/>
            <a:ext cx="4145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7480" y="2492280"/>
            <a:ext cx="4145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324000" y="4372920"/>
            <a:ext cx="4145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4677480" y="4372920"/>
            <a:ext cx="4145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F7CF6F-A5B4-46DD-9B3E-15A23C8BE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324000" y="1638000"/>
            <a:ext cx="84960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324000" y="2492280"/>
            <a:ext cx="273564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3196800" y="2492280"/>
            <a:ext cx="273564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6069600" y="2492280"/>
            <a:ext cx="273564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324000" y="4372920"/>
            <a:ext cx="273564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6"/>
          <p:cNvSpPr>
            <a:spLocks noGrp="1"/>
          </p:cNvSpPr>
          <p:nvPr>
            <p:ph/>
          </p:nvPr>
        </p:nvSpPr>
        <p:spPr>
          <a:xfrm>
            <a:off x="3196800" y="4372920"/>
            <a:ext cx="273564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7"/>
          <p:cNvSpPr>
            <a:spLocks noGrp="1"/>
          </p:cNvSpPr>
          <p:nvPr>
            <p:ph/>
          </p:nvPr>
        </p:nvSpPr>
        <p:spPr>
          <a:xfrm>
            <a:off x="6069600" y="4372920"/>
            <a:ext cx="273564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6764CE-3325-45C4-8EFD-4275BB7C2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24000" y="1638000"/>
            <a:ext cx="84960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24000" y="2492280"/>
            <a:ext cx="849600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3EFAA-B5E2-432F-88FC-56DBEAFFF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24000" y="1638000"/>
            <a:ext cx="84960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24000" y="2492280"/>
            <a:ext cx="414576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7480" y="2492280"/>
            <a:ext cx="414576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9F1F8-96A8-4891-BEC0-42AA794EE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24000" y="1638000"/>
            <a:ext cx="84960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B3805-F8C3-41BC-8418-F0DE2BCD7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24000" y="1638000"/>
            <a:ext cx="8496000" cy="32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6CEAE-CA78-475D-8AF7-C56611714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24000" y="1638000"/>
            <a:ext cx="84960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24000" y="2492280"/>
            <a:ext cx="4145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7480" y="2492280"/>
            <a:ext cx="414576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324000" y="4372920"/>
            <a:ext cx="4145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3A1D1-FB02-43A2-9CE9-D69F47247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24000" y="1638000"/>
            <a:ext cx="84960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24000" y="2492280"/>
            <a:ext cx="8496000" cy="36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642E5-BE57-4E26-8204-F7C04E65E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24000" y="1638000"/>
            <a:ext cx="84960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24000" y="2492280"/>
            <a:ext cx="414576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7480" y="2492280"/>
            <a:ext cx="4145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7480" y="4372920"/>
            <a:ext cx="4145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5B121-375B-47EB-899A-9E3D350A7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24000" y="1638000"/>
            <a:ext cx="84960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24000" y="2492280"/>
            <a:ext cx="4145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7480" y="2492280"/>
            <a:ext cx="4145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24000" y="4372920"/>
            <a:ext cx="84960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B5D91-3519-47E2-88E5-FE7E483F8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4000" y="1638000"/>
            <a:ext cx="84960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24000" y="2492280"/>
            <a:ext cx="84960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24000" y="4372920"/>
            <a:ext cx="84960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9CE9A-AFD4-4534-9545-7F9C3EFEB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24000" y="1638000"/>
            <a:ext cx="84960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24000" y="2492280"/>
            <a:ext cx="4145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7480" y="2492280"/>
            <a:ext cx="4145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24000" y="4372920"/>
            <a:ext cx="4145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7480" y="4372920"/>
            <a:ext cx="4145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93C6A-0687-4FFA-B69E-8C7A35286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24000" y="1638000"/>
            <a:ext cx="84960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24000" y="2492280"/>
            <a:ext cx="273564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196800" y="2492280"/>
            <a:ext cx="273564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69600" y="2492280"/>
            <a:ext cx="273564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24000" y="4372920"/>
            <a:ext cx="273564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196800" y="4372920"/>
            <a:ext cx="273564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69600" y="4372920"/>
            <a:ext cx="273564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D6920-3961-46C7-B732-E2BA033A6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9F02A1-BB96-48E0-97C8-CD689F6ED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24000" y="1638000"/>
            <a:ext cx="84960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24000" y="2492280"/>
            <a:ext cx="8496000" cy="36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FE65CF-1ADA-4806-A24A-86BA6FF2A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24000" y="1638000"/>
            <a:ext cx="84960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24000" y="2492280"/>
            <a:ext cx="849600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0A0B53-5E8B-436C-AC3E-E686EA959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24000" y="1638000"/>
            <a:ext cx="84960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4000" y="2492280"/>
            <a:ext cx="414576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7480" y="2492280"/>
            <a:ext cx="414576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964D52-3A65-4F1D-9FB0-C059286CB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24000" y="1638000"/>
            <a:ext cx="84960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979F32-1277-4979-B5BF-2D9B0E715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24000" y="1638000"/>
            <a:ext cx="84960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24000" y="2492280"/>
            <a:ext cx="849600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DF2B9-C9B8-4502-86DD-CD297D771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24000" y="1638000"/>
            <a:ext cx="8496000" cy="32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0197F5-F954-412A-8C91-8CF4CD5D3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24000" y="1638000"/>
            <a:ext cx="84960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4000" y="2492280"/>
            <a:ext cx="4145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7480" y="2492280"/>
            <a:ext cx="414576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24000" y="4372920"/>
            <a:ext cx="4145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327B60-6C77-4961-BAC6-FD5D30F7E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24000" y="1638000"/>
            <a:ext cx="84960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24000" y="2492280"/>
            <a:ext cx="414576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7480" y="2492280"/>
            <a:ext cx="4145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7480" y="4372920"/>
            <a:ext cx="4145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A9EA6B-733C-4AF4-AE96-9AF6E329E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24000" y="1638000"/>
            <a:ext cx="84960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24000" y="2492280"/>
            <a:ext cx="4145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7480" y="2492280"/>
            <a:ext cx="4145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24000" y="4372920"/>
            <a:ext cx="84960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B3BD88-7207-4A65-993B-D59FBD44D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24000" y="1638000"/>
            <a:ext cx="84960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24000" y="2492280"/>
            <a:ext cx="84960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4000" y="4372920"/>
            <a:ext cx="84960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0346DF-C9A3-40E5-B62D-CB6238510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24000" y="1638000"/>
            <a:ext cx="84960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24000" y="2492280"/>
            <a:ext cx="4145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7480" y="2492280"/>
            <a:ext cx="4145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24000" y="4372920"/>
            <a:ext cx="4145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7480" y="4372920"/>
            <a:ext cx="4145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C3B8E1-B7FE-424F-8DCF-EE9251A52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24000" y="1638000"/>
            <a:ext cx="84960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24000" y="2492280"/>
            <a:ext cx="273564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196800" y="2492280"/>
            <a:ext cx="273564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69600" y="2492280"/>
            <a:ext cx="273564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24000" y="4372920"/>
            <a:ext cx="273564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196800" y="4372920"/>
            <a:ext cx="273564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69600" y="4372920"/>
            <a:ext cx="273564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6336F1-33A1-4BAF-91C4-6080475EE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C259E2-080D-4A6F-8A60-D7B806E66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24000" y="1638000"/>
            <a:ext cx="84960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324000" y="2492280"/>
            <a:ext cx="8496000" cy="36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2F302D-9FCB-445F-8A89-9A968C2D6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24000" y="1638000"/>
            <a:ext cx="84960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24000" y="2492280"/>
            <a:ext cx="849600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EB0EC5-DAB5-49CF-88EB-47FF6EC20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24000" y="1638000"/>
            <a:ext cx="84960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24000" y="2492280"/>
            <a:ext cx="414576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7480" y="2492280"/>
            <a:ext cx="414576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C398F-5C62-4397-A9B0-1617852B2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24000" y="1638000"/>
            <a:ext cx="84960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24000" y="2492280"/>
            <a:ext cx="414576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7480" y="2492280"/>
            <a:ext cx="414576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067005-3567-428E-8462-BD0A70C0D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24000" y="1638000"/>
            <a:ext cx="84960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144A0B-6DA6-42D2-823B-1BD9E3654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324000" y="1638000"/>
            <a:ext cx="8496000" cy="32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813760-D205-4FA9-B95C-D1F57B193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24000" y="1638000"/>
            <a:ext cx="84960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24000" y="2492280"/>
            <a:ext cx="4145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7480" y="2492280"/>
            <a:ext cx="414576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24000" y="4372920"/>
            <a:ext cx="4145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FA497A-61D9-4D55-806D-90840D86A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24000" y="1638000"/>
            <a:ext cx="84960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24000" y="2492280"/>
            <a:ext cx="414576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7480" y="2492280"/>
            <a:ext cx="4145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7480" y="4372920"/>
            <a:ext cx="4145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A7A7BE-3E77-4BED-95B3-3E77B8160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24000" y="1638000"/>
            <a:ext cx="84960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24000" y="2492280"/>
            <a:ext cx="4145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7480" y="2492280"/>
            <a:ext cx="4145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324000" y="4372920"/>
            <a:ext cx="84960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1F125D-4C51-4FC2-95C1-40410486D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24000" y="1638000"/>
            <a:ext cx="84960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24000" y="2492280"/>
            <a:ext cx="84960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24000" y="4372920"/>
            <a:ext cx="84960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797196-D14A-46B6-8AF7-6C8C21417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24000" y="1638000"/>
            <a:ext cx="84960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24000" y="2492280"/>
            <a:ext cx="4145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7480" y="2492280"/>
            <a:ext cx="4145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324000" y="4372920"/>
            <a:ext cx="4145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7480" y="4372920"/>
            <a:ext cx="4145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4CB1F3-5B5A-4728-9881-3A01084F0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24000" y="1638000"/>
            <a:ext cx="84960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24000" y="2492280"/>
            <a:ext cx="273564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196800" y="2492280"/>
            <a:ext cx="273564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69600" y="2492280"/>
            <a:ext cx="273564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324000" y="4372920"/>
            <a:ext cx="273564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196800" y="4372920"/>
            <a:ext cx="273564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69600" y="4372920"/>
            <a:ext cx="273564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C475C8-A009-4CE5-9952-171CA9C91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4F49EE-26A2-44E2-81C8-FE401BCDF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24000" y="1638000"/>
            <a:ext cx="84960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A8BD7-2EE4-4451-B3B0-9A58A51E5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24000" y="1638000"/>
            <a:ext cx="84960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324000" y="2492280"/>
            <a:ext cx="8496000" cy="36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9D2810-0DEB-4BE0-83C7-221C1714F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24000" y="1638000"/>
            <a:ext cx="84960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24000" y="2492280"/>
            <a:ext cx="849600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DC8558-EB68-4C63-988F-B2D4860A0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24000" y="1638000"/>
            <a:ext cx="84960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24000" y="2492280"/>
            <a:ext cx="414576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7480" y="2492280"/>
            <a:ext cx="414576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58AA0A-77D5-4F6C-B463-2F5C2FDA9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24000" y="1638000"/>
            <a:ext cx="84960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8F8848-9AB3-4270-AEF2-BA4309B4C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324000" y="1638000"/>
            <a:ext cx="8496000" cy="32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879E36-C5EA-4649-8979-F40DAABD7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24000" y="1638000"/>
            <a:ext cx="84960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24000" y="2492280"/>
            <a:ext cx="4145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7480" y="2492280"/>
            <a:ext cx="414576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324000" y="4372920"/>
            <a:ext cx="4145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52FDF8-7119-4756-8779-1A3E2D854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24000" y="1638000"/>
            <a:ext cx="84960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24000" y="2492280"/>
            <a:ext cx="414576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7480" y="2492280"/>
            <a:ext cx="4145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77480" y="4372920"/>
            <a:ext cx="4145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E09B03-235C-42A3-8F85-CD75D1658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24000" y="1638000"/>
            <a:ext cx="84960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24000" y="2492280"/>
            <a:ext cx="4145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7480" y="2492280"/>
            <a:ext cx="4145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324000" y="4372920"/>
            <a:ext cx="84960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320080-6F09-4064-89D4-47F0D2513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24000" y="1638000"/>
            <a:ext cx="84960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24000" y="2492280"/>
            <a:ext cx="84960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4000" y="4372920"/>
            <a:ext cx="84960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7072EC-FD86-4F42-B5B8-3E16C27EB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24000" y="1638000"/>
            <a:ext cx="84960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24000" y="2492280"/>
            <a:ext cx="4145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7480" y="2492280"/>
            <a:ext cx="4145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324000" y="4372920"/>
            <a:ext cx="4145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77480" y="4372920"/>
            <a:ext cx="4145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8CC522-D04A-4097-9EB9-9DC582C18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24000" y="1638000"/>
            <a:ext cx="8496000" cy="32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7D6C8-0FBC-4BA9-A6C6-C11E8C1A3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24000" y="1638000"/>
            <a:ext cx="84960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24000" y="2492280"/>
            <a:ext cx="273564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196800" y="2492280"/>
            <a:ext cx="273564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069600" y="2492280"/>
            <a:ext cx="273564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324000" y="4372920"/>
            <a:ext cx="273564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196800" y="4372920"/>
            <a:ext cx="273564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069600" y="4372920"/>
            <a:ext cx="273564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200A5C-B2FA-4948-B751-1513E6413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EC921B-04B6-45D2-A0C3-0E0AFD0AD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24000" y="1638000"/>
            <a:ext cx="84960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324000" y="2492280"/>
            <a:ext cx="8496000" cy="36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86BEDA-1806-4E55-B6B1-68A806040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24000" y="1638000"/>
            <a:ext cx="84960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24000" y="2492280"/>
            <a:ext cx="849600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7DAEA9-1146-4129-BC47-F8CED0E1C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24000" y="1638000"/>
            <a:ext cx="84960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24000" y="2492280"/>
            <a:ext cx="414576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7480" y="2492280"/>
            <a:ext cx="414576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972DC1-F656-472C-B20C-352F3561D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24000" y="1638000"/>
            <a:ext cx="84960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8F3BB4-0846-4494-BE5F-88FA50FD8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324000" y="1638000"/>
            <a:ext cx="8496000" cy="32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9EB4C0-0F6D-4E53-A9DD-B336C6378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24000" y="1638000"/>
            <a:ext cx="84960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24000" y="2492280"/>
            <a:ext cx="4145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7480" y="2492280"/>
            <a:ext cx="414576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24000" y="4372920"/>
            <a:ext cx="4145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BD2260-9FBF-49F5-A115-4771FF2E0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24000" y="1638000"/>
            <a:ext cx="84960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24000" y="2492280"/>
            <a:ext cx="414576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7480" y="2492280"/>
            <a:ext cx="4145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677480" y="4372920"/>
            <a:ext cx="4145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E70820-6B5E-4050-8545-9F82B8A32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24000" y="1638000"/>
            <a:ext cx="84960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24000" y="2492280"/>
            <a:ext cx="4145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7480" y="2492280"/>
            <a:ext cx="4145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324000" y="4372920"/>
            <a:ext cx="84960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EDF291-5047-461A-BAC0-96174CC70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24000" y="1638000"/>
            <a:ext cx="84960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24000" y="2492280"/>
            <a:ext cx="4145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7480" y="2492280"/>
            <a:ext cx="414576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24000" y="4372920"/>
            <a:ext cx="4145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82FEF-B0DE-4D57-9C11-FAC8498FB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24000" y="1638000"/>
            <a:ext cx="84960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24000" y="2492280"/>
            <a:ext cx="84960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24000" y="4372920"/>
            <a:ext cx="84960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B38731-F22D-4B4C-98BD-230F3AE42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24000" y="1638000"/>
            <a:ext cx="84960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324000" y="2492280"/>
            <a:ext cx="4145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7480" y="2492280"/>
            <a:ext cx="4145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324000" y="4372920"/>
            <a:ext cx="4145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677480" y="4372920"/>
            <a:ext cx="4145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CCFE82-618D-4664-B9D0-81553E61B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24000" y="1638000"/>
            <a:ext cx="84960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24000" y="2492280"/>
            <a:ext cx="273564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196800" y="2492280"/>
            <a:ext cx="273564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069600" y="2492280"/>
            <a:ext cx="273564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324000" y="4372920"/>
            <a:ext cx="273564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196800" y="4372920"/>
            <a:ext cx="273564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6069600" y="4372920"/>
            <a:ext cx="273564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FC266E-D70F-4CAB-82E3-3E7640682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687768-4D9A-4420-ABB0-0B0B180DC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24000" y="1638000"/>
            <a:ext cx="84960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324000" y="2492280"/>
            <a:ext cx="8496000" cy="36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0BFD38-264F-439E-86E2-ADB28E998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24000" y="1638000"/>
            <a:ext cx="84960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24000" y="2492280"/>
            <a:ext cx="849600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78DEC1-3A58-4D80-BEDF-CB1026456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24000" y="1638000"/>
            <a:ext cx="84960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324000" y="2492280"/>
            <a:ext cx="414576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7480" y="2492280"/>
            <a:ext cx="414576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CFE373-7EC8-42FD-9DEF-405103A0B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24000" y="1638000"/>
            <a:ext cx="84960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408934-F8BA-4CE6-8ECD-967EADB11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324000" y="1638000"/>
            <a:ext cx="8496000" cy="32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0F19A3-56F2-46C2-9721-0D2E4DA44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24000" y="1638000"/>
            <a:ext cx="84960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24000" y="2492280"/>
            <a:ext cx="4145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7480" y="2492280"/>
            <a:ext cx="414576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24000" y="4372920"/>
            <a:ext cx="4145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C23E39-953C-43AD-A364-B7F29D945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24000" y="1638000"/>
            <a:ext cx="84960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24000" y="2492280"/>
            <a:ext cx="414576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480" y="2492280"/>
            <a:ext cx="4145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7480" y="4372920"/>
            <a:ext cx="4145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E43EC-E69D-474B-8C12-A44D473C0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24000" y="1638000"/>
            <a:ext cx="84960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24000" y="2492280"/>
            <a:ext cx="414576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7480" y="2492280"/>
            <a:ext cx="4145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7480" y="4372920"/>
            <a:ext cx="4145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9D0814-DC56-45A7-968C-0BADD22A6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24000" y="1638000"/>
            <a:ext cx="84960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24000" y="2492280"/>
            <a:ext cx="4145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7480" y="2492280"/>
            <a:ext cx="4145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324000" y="4372920"/>
            <a:ext cx="84960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8D31FB-B0BE-40DE-B19A-F655B820E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24000" y="1638000"/>
            <a:ext cx="84960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24000" y="2492280"/>
            <a:ext cx="84960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4000" y="4372920"/>
            <a:ext cx="84960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8BC88B-5176-43DC-8CEC-FC10CE229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24000" y="1638000"/>
            <a:ext cx="84960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324000" y="2492280"/>
            <a:ext cx="4145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7480" y="2492280"/>
            <a:ext cx="4145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324000" y="4372920"/>
            <a:ext cx="4145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7480" y="4372920"/>
            <a:ext cx="4145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FF4E02-7469-4692-9BAF-8A2C9649F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24000" y="1638000"/>
            <a:ext cx="84960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324000" y="2492280"/>
            <a:ext cx="273564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196800" y="2492280"/>
            <a:ext cx="273564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69600" y="2492280"/>
            <a:ext cx="273564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324000" y="4372920"/>
            <a:ext cx="273564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196800" y="4372920"/>
            <a:ext cx="273564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69600" y="4372920"/>
            <a:ext cx="273564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14B331-8270-460F-94AF-2BA18B70D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C1CC4C-28A0-48E7-9E48-F7861737F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24000" y="1638000"/>
            <a:ext cx="84960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324000" y="2492280"/>
            <a:ext cx="8496000" cy="36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CC9EFB-B991-4D69-94D0-C613BB01D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324000" y="1638000"/>
            <a:ext cx="84960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324000" y="2492280"/>
            <a:ext cx="849600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510FDB-F011-4B5B-A442-F8CD1C002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24000" y="1638000"/>
            <a:ext cx="84960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324000" y="2492280"/>
            <a:ext cx="414576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7480" y="2492280"/>
            <a:ext cx="414576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6BC112-B480-419A-BA14-53540A102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24000" y="1638000"/>
            <a:ext cx="84960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67DBB0-37FD-4262-B235-D46B74022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24000" y="1638000"/>
            <a:ext cx="84960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24000" y="2492280"/>
            <a:ext cx="4145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480" y="2492280"/>
            <a:ext cx="4145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24000" y="4372920"/>
            <a:ext cx="84960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65121-F800-4988-8D31-F6F4BCC76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324000" y="1638000"/>
            <a:ext cx="8496000" cy="32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DEB9A9-C0F9-48C4-A62D-9FC29ECE4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24000" y="1638000"/>
            <a:ext cx="84960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24000" y="2492280"/>
            <a:ext cx="4145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7480" y="2492280"/>
            <a:ext cx="414576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324000" y="4372920"/>
            <a:ext cx="4145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00BDC6-A08F-4304-BC02-84FFFABFC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24000" y="1638000"/>
            <a:ext cx="84960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324000" y="2492280"/>
            <a:ext cx="414576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7480" y="2492280"/>
            <a:ext cx="4145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7480" y="4372920"/>
            <a:ext cx="4145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1DE7FA-036A-4E87-A0F8-C4E5DD336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24000" y="1638000"/>
            <a:ext cx="84960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24000" y="2492280"/>
            <a:ext cx="4145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7480" y="2492280"/>
            <a:ext cx="4145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324000" y="4372920"/>
            <a:ext cx="84960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E9D4B8-44E7-4E0B-89D6-B8123D869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24000" y="1638000"/>
            <a:ext cx="84960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324000" y="2492280"/>
            <a:ext cx="84960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4000" y="4372920"/>
            <a:ext cx="84960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267C8A-211C-46FE-83FD-15D1503BD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24000" y="1638000"/>
            <a:ext cx="84960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324000" y="2492280"/>
            <a:ext cx="4145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7480" y="2492280"/>
            <a:ext cx="4145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324000" y="4372920"/>
            <a:ext cx="4145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7480" y="4372920"/>
            <a:ext cx="4145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1CB197-08EF-4D5A-A081-2B885D0B2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24000" y="1638000"/>
            <a:ext cx="84960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324000" y="2492280"/>
            <a:ext cx="273564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196800" y="2492280"/>
            <a:ext cx="273564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69600" y="2492280"/>
            <a:ext cx="273564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324000" y="4372920"/>
            <a:ext cx="273564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196800" y="4372920"/>
            <a:ext cx="273564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69600" y="4372920"/>
            <a:ext cx="273564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C7DA1E-9217-42EA-B26B-7EFD75AB5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9E26F3-4780-4931-A93E-52C96561C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24000" y="1638000"/>
            <a:ext cx="84960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324000" y="2492280"/>
            <a:ext cx="8496000" cy="36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F0B80A-65FC-4A02-ABD9-41ADAFB43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24000" y="1638000"/>
            <a:ext cx="84960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24000" y="2492280"/>
            <a:ext cx="849600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CB48A5-86D6-4B87-A9FB-43511683D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24000" y="1638000"/>
            <a:ext cx="84960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24000" y="2492280"/>
            <a:ext cx="849600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-198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92120" indent="-198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89920" indent="-198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89920" indent="-198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89920" indent="-198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24000" y="62449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686640" y="62449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F9877-12E5-4F30-BA00-82CCCB0CAFA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whitelogo"/>
          <p:cNvPicPr/>
          <p:nvPr/>
        </p:nvPicPr>
        <p:blipFill>
          <a:blip r:embed="rId3"/>
          <a:stretch/>
        </p:blipFill>
        <p:spPr>
          <a:xfrm>
            <a:off x="179280" y="6381720"/>
            <a:ext cx="1554120" cy="366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24000" y="1638000"/>
            <a:ext cx="84960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324000" y="2492280"/>
            <a:ext cx="849600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-198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92120" indent="-198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89920" indent="-198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89920" indent="-198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89920" indent="-198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dt" idx="28"/>
          </p:nvPr>
        </p:nvSpPr>
        <p:spPr>
          <a:xfrm>
            <a:off x="324000" y="62449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sldNum" idx="30"/>
          </p:nvPr>
        </p:nvSpPr>
        <p:spPr>
          <a:xfrm>
            <a:off x="6686640" y="62449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ABD4F-4B80-4EA4-83D2-E146223B227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324000" y="1638000"/>
            <a:ext cx="84960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324000" y="2492280"/>
            <a:ext cx="849600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-198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92120" indent="-198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89920" indent="-198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89920" indent="-198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89920" indent="-198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dt" idx="31"/>
          </p:nvPr>
        </p:nvSpPr>
        <p:spPr>
          <a:xfrm>
            <a:off x="324000" y="62449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 type="sldNum" idx="33"/>
          </p:nvPr>
        </p:nvSpPr>
        <p:spPr>
          <a:xfrm>
            <a:off x="6686640" y="62449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7800C-51DF-4F3F-90B5-72A7E795330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324000" y="1638000"/>
            <a:ext cx="84960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324000" y="2492280"/>
            <a:ext cx="849600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-198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92120" indent="-198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89920" indent="-198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89920" indent="-198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89920" indent="-198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dt" idx="34"/>
          </p:nvPr>
        </p:nvSpPr>
        <p:spPr>
          <a:xfrm>
            <a:off x="324000" y="62449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 type="sldNum" idx="36"/>
          </p:nvPr>
        </p:nvSpPr>
        <p:spPr>
          <a:xfrm>
            <a:off x="6686640" y="62449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33EEC-A014-4D94-A688-7CF91D16881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24000" y="1638000"/>
            <a:ext cx="84960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24000" y="2492280"/>
            <a:ext cx="849600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-198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92120" indent="-198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89920" indent="-198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89920" indent="-198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89920" indent="-198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324000" y="62449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686640" y="62449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E7EFF-4EC1-489B-A493-ACC70331DDB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24000" y="1638000"/>
            <a:ext cx="84960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324000" y="2492280"/>
            <a:ext cx="849600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-198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92120" indent="-198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89920" indent="-198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89920" indent="-198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89920" indent="-198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324000" y="62449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686640" y="62449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E8119-1E8D-4899-AA5A-BE7A7B3A0A5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4000" y="1638000"/>
            <a:ext cx="84960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324000" y="2492280"/>
            <a:ext cx="849600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-198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92120" indent="-198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89920" indent="-198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89920" indent="-198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89920" indent="-198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10"/>
          </p:nvPr>
        </p:nvSpPr>
        <p:spPr>
          <a:xfrm>
            <a:off x="324000" y="62449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12"/>
          </p:nvPr>
        </p:nvSpPr>
        <p:spPr>
          <a:xfrm>
            <a:off x="6686640" y="62449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421F0-4B20-453A-ADD3-972BB556490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24000" y="1638000"/>
            <a:ext cx="84960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324000" y="2492280"/>
            <a:ext cx="849600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-198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92120" indent="-198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89920" indent="-198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89920" indent="-198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89920" indent="-198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13"/>
          </p:nvPr>
        </p:nvSpPr>
        <p:spPr>
          <a:xfrm>
            <a:off x="324000" y="62449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15"/>
          </p:nvPr>
        </p:nvSpPr>
        <p:spPr>
          <a:xfrm>
            <a:off x="6686640" y="62449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2C257-F4B4-4F8C-981F-BF6970AF705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24000" y="1638000"/>
            <a:ext cx="84960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324000" y="2492280"/>
            <a:ext cx="849600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-198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92120" indent="-198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89920" indent="-198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89920" indent="-198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89920" indent="-198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dt" idx="16"/>
          </p:nvPr>
        </p:nvSpPr>
        <p:spPr>
          <a:xfrm>
            <a:off x="324000" y="62449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 type="sldNum" idx="18"/>
          </p:nvPr>
        </p:nvSpPr>
        <p:spPr>
          <a:xfrm>
            <a:off x="6686640" y="62449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CDDD8-6881-44B6-A9E2-72AD408886C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24000" y="1638000"/>
            <a:ext cx="84960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324000" y="2492280"/>
            <a:ext cx="849600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-198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92120" indent="-198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89920" indent="-198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89920" indent="-198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89920" indent="-198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9"/>
          </p:nvPr>
        </p:nvSpPr>
        <p:spPr>
          <a:xfrm>
            <a:off x="324000" y="62449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21"/>
          </p:nvPr>
        </p:nvSpPr>
        <p:spPr>
          <a:xfrm>
            <a:off x="6686640" y="62449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AD790-70AD-4728-9DE9-7B910B3DBC7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24000" y="1638000"/>
            <a:ext cx="84960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324000" y="2492280"/>
            <a:ext cx="849600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-198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92120" indent="-198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89920" indent="-198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89920" indent="-198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89920" indent="-198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dt" idx="22"/>
          </p:nvPr>
        </p:nvSpPr>
        <p:spPr>
          <a:xfrm>
            <a:off x="324000" y="62449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 type="sldNum" idx="24"/>
          </p:nvPr>
        </p:nvSpPr>
        <p:spPr>
          <a:xfrm>
            <a:off x="6686640" y="62449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0BAC2-2ADC-49D2-8B21-63AAA62DCB8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24000" y="1638000"/>
            <a:ext cx="84960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324000" y="2492280"/>
            <a:ext cx="849600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-198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92120" indent="-198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89920" indent="-198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89920" indent="-198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89920" indent="-198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5"/>
          </p:nvPr>
        </p:nvSpPr>
        <p:spPr>
          <a:xfrm>
            <a:off x="324000" y="62449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7"/>
          </p:nvPr>
        </p:nvSpPr>
        <p:spPr>
          <a:xfrm>
            <a:off x="6686640" y="62449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0EA00-CE61-48FE-8084-2341D029E0E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755640" y="2852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000000"/>
                </a:solidFill>
                <a:latin typeface="Arial"/>
              </a:rPr>
              <a:t>Shocking news!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4" name="Picture 1" descr=""/>
          <p:cNvPicPr/>
          <p:nvPr/>
        </p:nvPicPr>
        <p:blipFill>
          <a:blip r:embed="rId1"/>
          <a:stretch/>
        </p:blipFill>
        <p:spPr>
          <a:xfrm>
            <a:off x="324000" y="6453360"/>
            <a:ext cx="1765080" cy="22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755640" y="2852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Arial"/>
              </a:rPr>
              <a:t>Jesus escapes!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2" name="Picture 5" descr=""/>
          <p:cNvPicPr/>
          <p:nvPr/>
        </p:nvPicPr>
        <p:blipFill>
          <a:blip r:embed="rId1"/>
          <a:stretch/>
        </p:blipFill>
        <p:spPr>
          <a:xfrm>
            <a:off x="324000" y="6453360"/>
            <a:ext cx="1765080" cy="22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755640" y="2852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Arial"/>
              </a:rPr>
              <a:t>and that was just </a:t>
            </a:r>
            <a:br>
              <a:rPr sz="5400"/>
            </a:br>
            <a:r>
              <a:rPr b="1" lang="en-GB" sz="5400" spc="-1" strike="noStrike">
                <a:solidFill>
                  <a:srgbClr val="000000"/>
                </a:solidFill>
                <a:latin typeface="Arial"/>
              </a:rPr>
              <a:t>the beginning…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4" name="Picture 5" descr=""/>
          <p:cNvPicPr/>
          <p:nvPr/>
        </p:nvPicPr>
        <p:blipFill>
          <a:blip r:embed="rId1"/>
          <a:stretch/>
        </p:blipFill>
        <p:spPr>
          <a:xfrm>
            <a:off x="324000" y="6453360"/>
            <a:ext cx="1765080" cy="22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755640" y="2852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Arial"/>
              </a:rPr>
              <a:t>Who do you say I am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6" name="Picture 5" descr=""/>
          <p:cNvPicPr/>
          <p:nvPr/>
        </p:nvPicPr>
        <p:blipFill>
          <a:blip r:embed="rId1"/>
          <a:stretch/>
        </p:blipFill>
        <p:spPr>
          <a:xfrm>
            <a:off x="324000" y="6453360"/>
            <a:ext cx="1765080" cy="22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755640" y="2852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Arial"/>
              </a:rPr>
              <a:t>That’s impossible – </a:t>
            </a:r>
            <a:br>
              <a:rPr sz="6000"/>
            </a:br>
            <a:r>
              <a:rPr b="1" lang="en-GB" sz="6000" spc="-1" strike="noStrike">
                <a:solidFill>
                  <a:srgbClr val="000000"/>
                </a:solidFill>
                <a:latin typeface="Arial"/>
              </a:rPr>
              <a:t>she can’t be pregnant!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6" name="Picture 5" descr=""/>
          <p:cNvPicPr/>
          <p:nvPr/>
        </p:nvPicPr>
        <p:blipFill>
          <a:blip r:embed="rId1"/>
          <a:stretch/>
        </p:blipFill>
        <p:spPr>
          <a:xfrm>
            <a:off x="324000" y="6453360"/>
            <a:ext cx="1765080" cy="22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755640" y="2852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Arial"/>
              </a:rPr>
              <a:t>What will Joseph say?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8" name="Picture 5" descr=""/>
          <p:cNvPicPr/>
          <p:nvPr/>
        </p:nvPicPr>
        <p:blipFill>
          <a:blip r:embed="rId1"/>
          <a:stretch/>
        </p:blipFill>
        <p:spPr>
          <a:xfrm>
            <a:off x="324000" y="6453360"/>
            <a:ext cx="1765080" cy="22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755640" y="2852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Arial"/>
              </a:rPr>
              <a:t>Things get even more complicated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0" name="Picture 5" descr=""/>
          <p:cNvPicPr/>
          <p:nvPr/>
        </p:nvPicPr>
        <p:blipFill>
          <a:blip r:embed="rId1"/>
          <a:stretch/>
        </p:blipFill>
        <p:spPr>
          <a:xfrm>
            <a:off x="324000" y="6453360"/>
            <a:ext cx="1765080" cy="22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39280" y="2781000"/>
            <a:ext cx="820764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Arial"/>
              </a:rPr>
              <a:t>Is this the end of the story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2" name="Picture 5" descr=""/>
          <p:cNvPicPr/>
          <p:nvPr/>
        </p:nvPicPr>
        <p:blipFill>
          <a:blip r:embed="rId1"/>
          <a:stretch/>
        </p:blipFill>
        <p:spPr>
          <a:xfrm>
            <a:off x="324000" y="6453360"/>
            <a:ext cx="1765080" cy="22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755640" y="2852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Arial"/>
              </a:rPr>
              <a:t>What happens next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4" name="Picture 5" descr=""/>
          <p:cNvPicPr/>
          <p:nvPr/>
        </p:nvPicPr>
        <p:blipFill>
          <a:blip r:embed="rId1"/>
          <a:stretch/>
        </p:blipFill>
        <p:spPr>
          <a:xfrm>
            <a:off x="324000" y="6453360"/>
            <a:ext cx="1765080" cy="22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755640" y="2852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Arial"/>
              </a:rPr>
              <a:t>But not everyone is </a:t>
            </a:r>
            <a:br>
              <a:rPr sz="5400"/>
            </a:br>
            <a:r>
              <a:rPr b="1" lang="en-GB" sz="5400" spc="-1" strike="noStrike">
                <a:solidFill>
                  <a:srgbClr val="000000"/>
                </a:solidFill>
                <a:latin typeface="Arial"/>
              </a:rPr>
              <a:t>so happy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6" name="Picture 5" descr=""/>
          <p:cNvPicPr/>
          <p:nvPr/>
        </p:nvPicPr>
        <p:blipFill>
          <a:blip r:embed="rId1"/>
          <a:stretch/>
        </p:blipFill>
        <p:spPr>
          <a:xfrm>
            <a:off x="324000" y="6453360"/>
            <a:ext cx="1765080" cy="22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755640" y="2852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Arial"/>
              </a:rPr>
              <a:t>The wise men wise up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8" name="Picture 5" descr=""/>
          <p:cNvPicPr/>
          <p:nvPr/>
        </p:nvPicPr>
        <p:blipFill>
          <a:blip r:embed="rId1"/>
          <a:stretch/>
        </p:blipFill>
        <p:spPr>
          <a:xfrm>
            <a:off x="324000" y="6453360"/>
            <a:ext cx="1765080" cy="22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755640" y="2852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Arial"/>
              </a:rPr>
              <a:t>Outwitted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0" name="Picture 5" descr=""/>
          <p:cNvPicPr/>
          <p:nvPr/>
        </p:nvPicPr>
        <p:blipFill>
          <a:blip r:embed="rId1"/>
          <a:stretch/>
        </p:blipFill>
        <p:spPr>
          <a:xfrm>
            <a:off x="324000" y="6453360"/>
            <a:ext cx="1765080" cy="22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1T13:36:18Z</dcterms:created>
  <dc:creator>Kris Calver</dc:creator>
  <dc:description/>
  <dc:language>en-US</dc:language>
  <cp:lastModifiedBy>Elizabeth King</cp:lastModifiedBy>
  <dcterms:modified xsi:type="dcterms:W3CDTF">2023-09-05T20:10:33Z</dcterms:modified>
  <cp:revision>5</cp:revision>
  <dc:subject/>
  <dc:title>Slide 1</dc:title>
</cp:coreProperties>
</file>